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FEBE-1AFD-4BF0-A42E-D5C9A186F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mage up, pulse given 25 nm before top of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imag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is: we were able to shorten the MWNT tip in air without loosing it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icult, more difficult than in SEM where you can see what you are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bilities happen only on regions with high corr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196-C2B1-43F7-A8C7-E5CFB388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4E1-02AF-48CF-B9C9-76511E00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229-313D-49F6-8609-49813C83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33C-EFA8-46A1-BD3A-3255051E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730-526F-4B2F-B9DC-E6457890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B29-F30B-4EEC-9C67-ED7D62BE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040-0754-40C6-8F9B-101D2300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91E-5E8C-4796-B404-99EAED52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F4B-7FCF-4B20-967D-18BCEB23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883-5C08-487C-AD4D-17776164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6FF-2B90-46F7-BAA7-F324AF84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E18-0405-4BF0-A489-8D183DCA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8F5E-E156-43EA-B560-0930EA3D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7162" r="0" b="49991"/>
          <a:stretch/>
        </p:blipFill>
        <p:spPr>
          <a:xfrm>
            <a:off x="347760" y="4489560"/>
            <a:ext cx="8447040" cy="144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178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>
            <a:lum contrast="18000"/>
          </a:blip>
          <a:srcRect l="1802" t="50515" r="71134" b="32648"/>
          <a:stretch/>
        </p:blipFill>
        <p:spPr>
          <a:xfrm>
            <a:off x="609480" y="907920"/>
            <a:ext cx="3962520" cy="184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56960" y="75564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piezo step 277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9480" y="12891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720" y="533520"/>
            <a:ext cx="12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867280" y="1365120"/>
            <a:ext cx="2362320" cy="1968480"/>
            <a:chOff x="5867280" y="1365120"/>
            <a:chExt cx="2362320" cy="1968480"/>
          </a:xfrm>
        </p:grpSpPr>
        <p:pic>
          <p:nvPicPr>
            <p:cNvPr id="55" name="" descr=""/>
            <p:cNvPicPr/>
            <p:nvPr/>
          </p:nvPicPr>
          <p:blipFill>
            <a:blip r:embed="rId3"/>
            <a:srcRect l="37379" t="9122" r="46383" b="72841"/>
            <a:stretch/>
          </p:blipFill>
          <p:spPr>
            <a:xfrm>
              <a:off x="5867280" y="1365120"/>
              <a:ext cx="236232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095880" y="28126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98720" y="3657600"/>
            <a:ext cx="61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if MWNT is short enough for ima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age thin niobium film, grain size around 10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5997600"/>
            <a:ext cx="84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bit too long: feedback instabilities are caused by bending response of MW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13040" y="6424560"/>
            <a:ext cx="538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f. Snow, E.S., Campbell, P.M., and Novak, J.P., APL 80 (2002), 2002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0:20:09Z</dcterms:created>
  <dc:creator>Dionne</dc:creator>
  <dc:description/>
  <dc:language>en-US</dc:language>
  <cp:lastModifiedBy>Dionne</cp:lastModifiedBy>
  <dcterms:modified xsi:type="dcterms:W3CDTF">2005-01-24T10:27:31Z</dcterms:modified>
  <cp:revision>2</cp:revision>
  <dc:subject/>
  <dc:title>Slide 1</dc:title>
</cp:coreProperties>
</file>